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215-5001-42D0-9D61-6ABA38B7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17B-3DD1-40F4-857F-A1E49DE2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2A8-D920-4C2C-8E95-09F9AD25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6D1-EC40-483F-A8DE-89BCF3A3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A474-AF64-4EFE-80DC-B780B343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C40D-2AF3-4CA5-BF68-E3EDA68E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A246-0042-4269-AF0B-6B4988A3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E89B-80D5-49B9-A24C-A4BAC6D7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CE67-FD8A-4CF3-8062-6C5B4BA3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ADEC-6D71-45CF-B367-567B8A84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100B-B2B5-4F29-83D0-9AB7F191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8AB-438E-46C0-8238-9F4CB436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4F3B-9E89-4C81-AA31-C02E4108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5F5F-52FE-47A1-B480-47468D5C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17E8-E62F-4A55-82B2-B428F91B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0643-08BB-4CC6-83B0-C336813C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0F52-630B-45D1-818A-232D400C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1FD0-7D5E-4CD6-B490-7954454E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9722-34BF-476D-BD3A-D12AF990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91C9-DBF3-49DB-99AF-509A4B8A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9B46A-0FAB-4B23-9B2D-CC669486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DF03-90F0-4C82-8E0F-32762EF6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46A-E957-4436-9C83-58128D7F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F0E4-A1F1-4B43-B2F4-C457854F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6D2D9-565B-4856-B9A3-682BB22D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549E-E85B-4C7A-9C44-88AFFF3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74CD-FCFC-4C74-9834-F422CE4F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0B66-BE18-4E44-A706-D8CA4EFF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BB600-405A-4F26-B9F2-F65220D8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320C9-9D21-4A9B-A7D9-E712A4BB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15A0-7CF3-4CC8-816D-FA3C67CC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8A987-B821-4E22-B5D8-18B471A5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5DAF2-0DB7-4F5E-8E09-59E1CBB1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3BB-B459-4BCF-890F-8D64241C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DCE57-F1F7-4612-BD5B-B827DBA9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0F5B6-EA91-4693-ABE9-711DC656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AD12-5438-4E53-A9DD-9E5A02E7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7BBC9-5665-435C-A8AC-3E639AE2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7AAB-8459-4899-B656-F1A670D9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0E71B-BD7D-4AAC-BC00-2BCC70C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5D49-AD4B-4D6B-BD73-6BC6CB28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FE15B-80BD-404F-A768-972F8784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D8963-CB4E-4870-B5A1-0FDD9179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6C30-3E18-407A-ABBB-BE485172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AA8-BBB2-4DF0-B1F8-E879DB13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AB85-7155-4525-B30A-ADA51EE0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F775-A38D-4A5D-909F-A44CA450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6B04E-7FAF-49A3-ACE4-F885106D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6AB07-347F-4552-8875-52DBFD3F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BF75E-0DA0-4E4C-8023-087C2717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6E0B9-E853-4E4F-BB59-19424BDA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B8A12-4C80-42A8-A6F4-279BB28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F9BC-36A3-437B-998A-C4B84016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852BD-5AB4-45BB-AF33-2199BB9E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A6D98-6F25-482E-9499-FE018E3D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6DB-7286-48CE-8F93-6FFA8B23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3F0B2-CC61-4CA1-ABB8-5E5575BF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9F3E4-5B3A-4993-AD47-A18B928C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A11CC-742C-4F50-8228-2F11ADE1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4B34D-3BBB-4E83-B0D3-944DB1A2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1807-595A-4B5A-BA0F-383EAD18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63CB6-401B-464A-B1BE-A9EDE85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27CA8-C846-4AF4-A6A2-FFA796D3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34A7A-C5BA-4E54-89B1-3BB1E3E5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BA134-ADCF-41D5-AF7C-B4AF5321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0652F-4B62-4BEE-87AB-5277F6C8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BC0-EAB8-4D1C-959B-6FF32073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4065F-9812-4BF7-8055-64B33C7F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55D49-A40A-4852-BD45-87AC9247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85AAD-74F5-4709-B1FF-5D1C16E9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5A3A7-412B-410D-BE3A-FFE56B13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CADF6-BEB6-4302-B4E1-974BCF95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0C76A-304D-4537-A4F3-81A913BB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C5858-44A5-444C-B307-B68F2BB9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5D7D0-C207-4DE8-8257-3181E9BE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7E563-61B9-42E3-B6CF-3CAB5091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43EB9-D0E7-4103-B4E6-9AD61BB8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868-5B3C-43F1-9738-26461973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86D2E-4510-4185-BCCB-7908568E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75758-3CA9-4401-B6EA-EF7FF0B8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47C7-4945-43DF-BDDC-9F4722DB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7E644-6F4B-4C21-BD27-A173E6A5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2CDB5-655B-466D-BD57-3FEF2280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94C15-5516-4BFC-B264-C9054239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2831C-B215-425D-BF48-8271328D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74BF4-A934-4F1C-87CD-596BDF4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A18AF-F1C6-4716-B488-0FBA5DE8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641C2-7D64-42AC-A3FE-4EBC2B05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A00-2C16-4BA6-B4D4-C778009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52DB5-DE95-4EDA-BFBB-43EC7AC5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3C8B1-3781-4156-ABD2-A7A99283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8ABFC-61AA-4ACD-A5AE-4282A5D2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13E9B-A932-458D-A5AA-7D4ADEE3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B47D7-AF34-4487-890C-2E129B92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DA87A-7860-4B5E-9697-65D53141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A16E0-729A-4D26-9FCC-07DF047B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99791-E877-455D-8DAF-BBE5747EF6AE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64FA4-195A-425A-A3E9-925B04636053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6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7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8" name="Oval 11"/>
              <p:cNvSpPr/>
              <p:nvPr/>
            </p:nvSpPr>
            <p:spPr>
              <a:xfrm>
                <a:off x="948600" y="30340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9" name="Oval 12"/>
              <p:cNvSpPr/>
              <p:nvPr/>
            </p:nvSpPr>
            <p:spPr>
              <a:xfrm>
                <a:off x="1290600" y="34977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0" name="Oval 13"/>
              <p:cNvSpPr/>
              <p:nvPr/>
            </p:nvSpPr>
            <p:spPr>
              <a:xfrm>
                <a:off x="1274040" y="37065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1" name="Oval 14"/>
              <p:cNvSpPr/>
              <p:nvPr/>
            </p:nvSpPr>
            <p:spPr>
              <a:xfrm>
                <a:off x="1143720" y="32788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50" name="Oval 17"/>
            <p:cNvSpPr/>
            <p:nvPr/>
          </p:nvSpPr>
          <p:spPr>
            <a:xfrm>
              <a:off x="2071800" y="2503440"/>
              <a:ext cx="1466640" cy="9518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2787840" y="3474000"/>
              <a:ext cx="612720" cy="408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2" name="Oval 19"/>
            <p:cNvSpPr/>
            <p:nvPr/>
          </p:nvSpPr>
          <p:spPr>
            <a:xfrm>
              <a:off x="2753280" y="3910680"/>
              <a:ext cx="398160" cy="2692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3" name="Oval 20"/>
            <p:cNvSpPr/>
            <p:nvPr/>
          </p:nvSpPr>
          <p:spPr>
            <a:xfrm>
              <a:off x="2480400" y="3016080"/>
              <a:ext cx="631440" cy="40860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54" name="Round Same Side Corner Rectangle 21"/>
          <p:cNvSpPr/>
          <p:nvPr/>
        </p:nvSpPr>
        <p:spPr>
          <a:xfrm flipH="1" rot="5400000">
            <a:off x="4571280" y="1603080"/>
            <a:ext cx="3475080" cy="3475080"/>
          </a:xfrm>
          <a:prstGeom prst="pie">
            <a:avLst/>
          </a:prstGeom>
          <a:solidFill>
            <a:srgbClr val="bac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D5578-7540-4B61-A526-C7E1DEF4E5AC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7C349-B28C-46E3-9C8A-69EFE11AA037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98" name="Oval 17"/>
            <p:cNvSpPr/>
            <p:nvPr/>
          </p:nvSpPr>
          <p:spPr>
            <a:xfrm>
              <a:off x="2071800" y="1843200"/>
              <a:ext cx="1466640" cy="9514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>
              <a:off x="2787840" y="2813760"/>
              <a:ext cx="612720" cy="408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2753280" y="3250080"/>
              <a:ext cx="398160" cy="2692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2480400" y="2355840"/>
              <a:ext cx="631440" cy="40860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B832B-B978-4563-B783-8EB2C58F72C6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D2300-3C57-4946-A917-B02DC5B7B9BD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144" name="Rounded Rectangle 16"/>
            <p:cNvSpPr/>
            <p:nvPr/>
          </p:nvSpPr>
          <p:spPr>
            <a:xfrm>
              <a:off x="1027800" y="1599840"/>
              <a:ext cx="7087680" cy="347544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222120" y="1254240"/>
              <a:ext cx="3429360" cy="3919320"/>
              <a:chOff x="222120" y="1254240"/>
              <a:chExt cx="3429360" cy="3919320"/>
            </a:xfrm>
          </p:grpSpPr>
          <p:sp>
            <p:nvSpPr>
              <p:cNvPr id="146" name="Oval 18"/>
              <p:cNvSpPr/>
              <p:nvPr/>
            </p:nvSpPr>
            <p:spPr>
              <a:xfrm>
                <a:off x="222120" y="1254240"/>
                <a:ext cx="3429360" cy="22251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1896120" y="3523320"/>
                <a:ext cx="1432800" cy="9550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8" name="Oval 20"/>
              <p:cNvSpPr/>
              <p:nvPr/>
            </p:nvSpPr>
            <p:spPr>
              <a:xfrm>
                <a:off x="1815120" y="4543920"/>
                <a:ext cx="931680" cy="6296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1177920" y="2453040"/>
                <a:ext cx="1476360" cy="955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779E4-B13E-4382-B75D-60B20C072CA2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08BE9-30AD-4427-90A7-C82ECB99EABA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3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192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193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6FC85-4D71-4214-B55E-2BEC94967773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21400" y="3636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62EDD-50B9-45E0-B422-78DC214FA885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5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40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42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4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5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E6BA9-847E-4F00-9C55-C144F8CD87F1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6639C-43E0-4C1C-9CE9-E6CAD3307FDE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8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88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A3A4B-1C45-47FF-BDFD-5FC171BF3290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1456F-6023-4F45-AAE6-3E03B1ED4C41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7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336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338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852E4-DD51-47A7-996D-D5092A5A165C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858C5-02E7-4B1C-9E26-B17D318EED8C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50840" y="1680840"/>
            <a:ext cx="3273480" cy="16398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A Long Way Gone Chapter 9 </a:t>
            </a: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650840" y="3384720"/>
            <a:ext cx="3273480" cy="529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Mr. Rush/ Mr. Farrell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Go Muskies!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Warm up!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Quiz Chapters 7 and 8 on quia.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0880" y="228240"/>
            <a:ext cx="4800600" cy="8874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What are we doing today?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96320" y="1574280"/>
            <a:ext cx="3607920" cy="223200"/>
          </a:xfrm>
          <a:prstGeom prst="rect">
            <a:avLst/>
          </a:prstGeom>
          <a:solidFill>
            <a:srgbClr val="749805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News Gothic MT"/>
              </a:rPr>
              <a:t>What we will do today</a:t>
            </a:r>
            <a:endParaRPr b="0" lang="en-US" sz="10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47720" y="2021040"/>
            <a:ext cx="3703680" cy="410688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Quiz Chapters 7 and 8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peakers what did you learn?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nticipation Guide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Predictio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Read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upport your answer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708440" y="1576440"/>
            <a:ext cx="3603600" cy="218880"/>
          </a:xfrm>
          <a:prstGeom prst="rect">
            <a:avLst/>
          </a:prstGeom>
          <a:solidFill>
            <a:srgbClr val="749805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News Gothic MT"/>
              </a:rPr>
              <a:t>Objectives</a:t>
            </a:r>
            <a:endParaRPr b="0" lang="en-US" sz="10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59120" y="2019240"/>
            <a:ext cx="3701880" cy="410688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nalyze the results of political, economic, and social oppression and the violation of human rights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49805"/>
                </a:solidFill>
                <a:latin typeface="News Gothic MT"/>
              </a:rPr>
              <a:t>What did you learn from the speakers yesterday?</a:t>
            </a:r>
            <a:endParaRPr b="0" lang="en-US" sz="25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What did you learn about West African. . 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Daily Life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ulture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reatment of Family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reatment of Elderly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od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Religio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Government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Educatio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nticipation Guid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heck the answers you think are true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Leave blank the answers you think are false. (The paper has a back to it)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Prediction discussion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nticipation Guid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1. accustomed to ocean/fisherma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2. attacked by fishermen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3. boys knew 10 local language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4. young people assumed guilty- war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5. boys felt constantly in danger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6. lost shoes- burnt feet on sand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7. No one take in boys- scared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8. hip hop saved Ishamel beah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4:38:50Z</dcterms:created>
  <dc:creator>Craig Rush</dc:creator>
  <dc:description/>
  <dc:language>en-US</dc:language>
  <cp:lastModifiedBy>Craig Rush</cp:lastModifiedBy>
  <dcterms:modified xsi:type="dcterms:W3CDTF">2011-01-17T20:24:37Z</dcterms:modified>
  <cp:revision>3</cp:revision>
  <dc:subject/>
  <dc:title>A Long Way Gone Chapter 9 </dc:title>
</cp:coreProperties>
</file>